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308-C227-47BD-923A-9D669C1A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391-6500-430E-B150-E9ECD7FC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71460-6572-4565-B2F2-AEBE8362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4122A-7FF8-464F-B51F-6CC7D5B8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C8926-EC99-473E-AC2C-9326B166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D4719-85E2-4343-85AD-7608F6BD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0206F-2F30-4B80-BE02-2CF9BF5D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15C76-56E7-4B82-A4AC-8B7AE754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47F21-A700-42FA-AB13-7F433D1C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B549E-8C73-43D5-817C-A46420F9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14BE9-3A76-4991-A152-7003268D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A25BE-BAEA-4CAD-8FC5-67389077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FF07-7FB0-4392-A573-83C1BA71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EFDC5-DAA7-490A-B530-C70EB8E3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AB636-DBD6-45ED-A139-4A9C0051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E3CF1-35AC-4E16-B95D-7785D5DB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57BB6-C01C-499D-9E9A-E76BFB4E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0080A-96F4-4770-980B-52D95579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0FC29-CE47-45E0-A659-57ACA995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9EC7B-EC7A-45C3-AC1A-9FEDC639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0121B-8766-48F3-B37A-F8A3A295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BB101-6B58-400C-AD8A-1F641A5F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72129-B386-4A1B-AF42-8EDFEF0A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0BD-CD80-40A0-8CDF-61CCDE36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490A3-4B57-400A-86EB-0FA9F3C1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2C98C-443B-4EE9-9F8A-3383AA31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0FBF1-4783-406C-80F1-100C1305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F14C0-B200-4C8A-93CB-653CF62A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241AA-9834-420F-86C6-288F0532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44705-189F-4067-9C08-C6B4A619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DD811-4F0A-4309-8CED-E76BBB11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9CC4F-3A4D-4CE4-B1AE-827727A2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43EBE-B175-49E7-B897-CB462C82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47738-22F5-42FF-9AEF-E7401C46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4DC4-1F45-44C3-9C07-C2622CC7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1CD20-B5A7-4F9A-8683-58F22F9C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62CC4-6F11-482C-BCA4-767E890D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8BC45-01F9-4D18-B64E-9F125540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6EE56-42EB-4881-A8D6-B263EB41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A336B-2A5E-45EE-95D8-2DB33BFA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1FEFA-0D0C-400D-AC85-87DB42CC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15E04-0080-43FF-B790-689DF2CA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2801D-626C-427C-AABF-0701CF9B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8AC13-ADC0-404D-B132-6C60224C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1B50C-7313-487E-97BB-A4CEE9C3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8238-B417-42E6-AFE2-11B320E4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60874-0C77-42D7-AF6E-A5BAE2CA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9035B-973C-4899-888D-D4113E85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2522B-28A5-4122-9BA1-F8208E7E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A29E2-134D-4B99-B84E-55B57C59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09BC2-FA9B-4EBD-8211-23FC3AC0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00D9D-FD0C-466F-9965-6678C9A5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6B0B0-7702-47BE-991D-0B400131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345FD-205C-479E-B2D8-3AC4E5C7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0A371-CBE5-46DE-8CFE-21542891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2B36E-8D31-4D97-B852-E39F4C35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01FE-850C-445C-A277-277CFA06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96B79-D32A-4FAA-9AC1-8082FB3D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79F768-104A-46B1-8599-4C08461B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264A1-970A-4900-9986-D99F00CA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14581-D643-4801-9C2E-6646C34B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2305D-FD3D-48E8-85EC-7B575D39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BEBEC-4ADB-45EB-B3F5-BDBD7954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2B63F-7FD4-4303-93FE-A08CE225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BACCB0-8CB6-4F22-8D7B-BF33CE61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6F5062-7997-42D0-9F6A-9CAC10A3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470FCF-E8D5-4F0D-8769-BFE3749F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4AFC-52AA-4ED3-9C0B-F2084C5F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14E76-0FD0-4F7E-8B4E-A7C5C12B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870629-4144-4AFE-96E6-695A363F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1EA50-B702-407A-B24E-930722B9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C1C892-1F6D-47A4-80F1-81C615CF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A7A072-BC8C-4BBA-A0D9-1F8107D1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34F5F-A8DB-4861-91F6-737FAD1F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ECF33-FE81-4879-B30E-903BBD6C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DD0103-DE76-4F15-A6EA-C31AEC0D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8E1378-0BEE-4589-9D8E-209816C8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388734-F4D6-4CB4-B848-D9467936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4C90-641E-4809-AD3F-3699640C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7C8F8E-32FF-4FD1-869C-F59FD2E4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D3BF1-9CC6-45F6-828A-B346E0A9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9CF752-4261-4394-8D28-103B1499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1E4425-F7C6-49B4-9B14-9D9FB610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59C18F-B0DA-4029-B551-556EA9E0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21686B-68E1-4A7E-A18C-84D732FA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F476F9-13A7-42B1-9D47-C24034DE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AB9FDF-4E6F-4043-94F7-39BCDD91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456078-D620-4003-BC1A-3887B054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D696BB-F1A4-49E9-B523-5BCA0F1C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8475-F491-48D8-A084-05DEB94D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D5CFA-1F33-4CD2-99D3-857F83EC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D29F2-9A22-4D8D-BE78-579C4628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05D17-B380-452D-8E95-056E356C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D740E3-FAF9-4839-8A7B-7C00C938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753B1-2C09-4C7F-8EC1-B5EA932B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AC8B85-407B-423B-B687-74B7B8FF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6312A7-4CCD-466E-8D72-ECBEC0C9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C107E7-AA1D-4424-885F-8206C3FA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778F12-44D2-4A91-A842-16BABF0D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67D4E6-1A53-46CE-ABA3-D52DD7EA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D83A-C0FC-48E5-BEE6-75E8D217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52009C-436F-410D-AAC5-4AE61E90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29AD8F-872D-4682-A3CA-84D76518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5C0907-9D0E-4302-AD41-17162B64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C7A32C-28FA-4159-914A-122E5DF8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FCFEBF-41DE-4F66-8825-E8344071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D27A07-AFA4-4EAF-94D4-AF251BF6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E43530-EE87-4C7F-9E66-C63D36EC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C4A7D5-7B2A-4A87-8322-4292A721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54FA51-F7F1-4D35-B84B-63BDA48D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65682E-D692-4408-9140-7962097D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779-3474-4E0C-BC94-E9702060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4292-A9C2-4B7A-9218-BE654737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612062-EA92-488C-B304-BAE5E4E1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0AD471-92BE-4A13-854E-DB56C570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5797C2-58B6-4053-96A6-D41E3F55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0FCDC-C682-485C-B894-C8DE7949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354333-33D6-4D42-B391-66927181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1389B8-DFFF-4AB4-A918-158DF74A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B091D2-D60C-4D06-B3F2-16C1E8B2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D667D1-A9EC-4C8C-BA47-DEB506A9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6DF81D-A70D-464D-93DA-C888FE55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019A66-B264-46D8-8327-06BD45D8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A84F-CA88-452A-984A-9B4F111E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EE9035-3386-410B-9053-FCA1DA98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CB03A0-0E31-4415-9A39-F4F7ED98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AB5225-68B8-4C1D-8001-1D0B02EB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BB3AAB-94BA-4EEF-9EC3-1FCBF571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4566B3-22CA-4740-8AEF-B0E551FC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62DF77-52DC-4BFE-A1DA-32132B58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F35BD3-3AEB-45C3-8066-848E671E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0B8611-F52F-4B89-972C-B551EA8F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3CC0E2-6737-439B-8F99-E186ADD5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B8D281-73BB-4361-8A06-66638EF2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661B-C389-4102-80CC-E3B4B74E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C1E3D9-47FE-4A3C-896F-D7C9F068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115F52-54D2-4889-B94D-16EE31C9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D70052-9811-4013-A7F0-F2915B6A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23470A-A94F-4A8A-BFF6-B45CED23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6FB11A-30B3-4857-A9BD-D601D292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A4E1BF-A826-40DC-9BB1-9772F766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61A674-79C6-48B7-A429-DD4F19DA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F7A3EC-9D36-42E1-8052-A1717A77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23F811-2E35-4083-BEB6-B590E53E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8F8EB4-F74F-4720-90AD-47FE5E42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0D7A-9BF4-4C4D-9571-ED912B87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2490FB-A6DF-4349-8C10-0ED04472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65BBE0-FEA6-4244-B023-66EE3F2A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0B2A9F-1C52-4BB5-AD6F-7D177A4B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97D161-23B5-4C3D-A191-3B89EE03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E253E3-E782-4E8A-B467-C72FAC7B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0FB80E-6D70-403E-B472-8BCE35AE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1DEB4C-5F96-4564-B3C6-E8782345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CED8A5-188E-4ED4-A0E2-57FDAB15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5890B4-62A1-4809-AC6B-ECC11057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2F842A-CE3B-4406-BACC-AB8D6F6D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B0AA-970F-4943-B3A3-46113723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5C2E25-2F02-49F1-9969-21ABB167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D8E2FB-2441-4C49-9261-E00B66AA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4BF8AC-D4CE-484F-B011-9685AE6E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6444A9-F5A4-4A36-9561-CB55F91C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7CF63B-93B8-4EB5-B3C7-9F8666D1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412B63-212E-46E3-A18D-0C476028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2A11B8-2D3E-4532-B984-386AFB24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91DE1E-8BC3-433D-B744-43093B4A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AE7ECF-F092-4FBC-9F08-39094B28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B8D606-7EF3-4695-B843-EBC889A3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7D39-6067-44B3-A5FB-E9E82FE6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D9AD19-D326-411B-852E-FF3712CB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CB1911-4D9B-42F5-BBE5-0331B79B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165DC2-2E4A-4593-995E-E2E973EC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82BF-DD79-4C82-B91B-FFB74426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B8AD4-F603-41E4-830C-3A432601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3C328-43BF-487D-88FC-82333BF9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2681D-939C-47F3-9CAE-62320B52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75F-E85C-47B8-BB13-C77CEF6A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0289A-DD47-467D-8E4F-8356E0D3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72F66-F150-4260-ACF4-4D3587CB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9EE8A-F84C-47C9-B2E5-044D129E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1AC83-E354-4040-B278-2D276A4D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57EB8-611F-4751-933D-14288DA5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17830-7301-439F-BF4E-0F743A42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D0623-3F33-4C4A-B385-3AA9F6B0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B44B1-A3DA-4A2F-92DF-06BA7BA2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BAD79-627D-4CE6-8694-92C32C00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FC5DD-8D1E-453A-8FFF-6A2470A4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974-07A4-458F-A943-C1C583D8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E1DC3-A7D9-4313-A52D-BE80874A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F06C7-227A-4B6A-A7BF-503831FB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2841F-A3D4-4457-A9FA-C32C86B2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CAA0C-E28F-4A82-9123-7788EC15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C1B93-B89B-409D-8233-32E7C32C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30709-541E-4212-AE16-9CB313B6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6BAE3-E5C5-451F-983E-AA642865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BFD8E-0E27-402B-8446-D8E27100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2CE14-3C0E-49DC-A564-492C635D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C0F32-9E4A-4687-9E3A-85B7FE97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838-EF94-4FC1-9E2D-66784EFC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708D2-8968-4097-98DB-D6A84EE0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2A056-28F3-41DD-830A-85FE94C9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A4AD8-A8D7-4076-A64F-035EFEA4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77A2F-231C-4F0A-A0DA-091828FF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8D986-A230-4E22-B5AB-2BA0E49A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8A998-A6D2-4419-A049-DE9C05AF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D11DB-9F66-4833-A108-3E36FFD8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36E67-CB50-4287-9047-03E84B35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4CE94-EA9B-4684-9A62-E90E06A9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B3EB1-C3AD-4A88-B4CE-F6A6EBCC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791-EAF7-4F19-B547-7ECC6A1E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F32AE-14E9-4971-B237-C790994E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76DE6-5EE0-45DE-99C7-84A8ED2A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CC648-F56C-4927-9C19-86921C70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11046-7704-40A0-8D95-0C01ADEE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159D1-7AC8-4027-A89D-29FA6CF6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4210E-4918-43BF-871A-BFAF18CC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732BA-0CD0-4D19-BF99-1AE0726D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AF534-1DFD-4A40-B3BF-DBF0126E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F908A-C7A8-4CF2-9327-CF3C3A39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729F8-655B-4605-8B0D-7E6C4190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67F2-365F-46DA-B0B7-419175EF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B327F-F8F7-4000-BA4D-F58FA16D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3995B-B334-4484-BBAB-6AC68ACE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8F1C0-4972-43FD-ABC9-8122CDB1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F04AC-ADBE-4C52-868D-BE411F9B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7C42D-6F47-47C1-A727-7EA23C94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FA5E6-5ED9-4C0D-9716-83DB202F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FEDB6-BC35-450D-9EF4-0CF5FA95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8D6C7-73F5-437C-B955-0DF38A6D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B7966-1CC8-472D-B0CF-7B407C9B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9DE91-42D9-4861-9B1B-341918BE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F88D-F73E-45C7-B167-B9AEE10E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5F6F4-4BF3-4035-B415-948F760D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006A8-EF7D-4A6D-BFF9-0BB0235C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CE3EB-2A7F-42F6-8994-F88CB144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C0BD3-C9A0-4339-B225-1231E6ED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1837E-5A97-4806-9E49-DD7B3892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DAEB0-824C-4006-B991-33479475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AF2C4-5C7A-4F00-BD07-359E4776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5FAA6-1A60-4505-A4FF-8FEF163D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B8D80-165A-4BDA-9BAA-98DA32FB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587D9-9AD0-4E71-A82D-1F0D5BD6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9A0-FBE9-49B1-907E-0D191D49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63C79-BAA3-413C-9054-D4E73FC7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204F5-DD10-4BD6-87AD-1C8BAAA0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8EFEA-F850-4911-87C0-F9CD0632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84B38-7EB3-48B2-8ACF-37C4D125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B4108-9FE6-42FF-AFA8-75D9C488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AE8DC-00A4-45DB-8E37-9E676405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5CE6A-00A5-4D21-B844-6444C26D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1A97F-A9C5-482F-BF28-A1A001B1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80AA8-7283-46D6-9F18-11189633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C4F2B-3661-4843-9923-C1525A3C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C417-7309-4D93-9292-B43757CAF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5691-18B3-4491-8722-81FFE83FE6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3075-850E-4E5A-8569-7F7EB9E356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560E-064A-447D-B3DD-5CFF988DE0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9892-D925-43BC-B840-97629FFF9A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35AC-BEB6-406D-AA98-4FAD1BBE06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4881-FC85-49DD-B63F-30ADBD628D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60F6-86CC-4053-BD84-16997ACB41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313E-90E7-4F15-BE18-98388951A1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4E28-C3A5-48E6-81E6-2FFE77078B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68BB-E677-4782-86B6-D342C6680E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9942-2779-4C37-B5D5-8630C81F2C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D073-DE8D-435A-B412-9252E1E9D7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5723-9617-4E59-B249-321558F7CA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501A-6298-4D4C-896E-B7E12017A3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A816-0DD7-4E12-B760-326A546F02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2D52-06F3-4A11-8FD2-524D8F3306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29C2-AF17-4039-8D80-9E53D3EB1E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6AD6-476D-4F54-A8A5-12928DE912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6AFB-066B-4CF7-A551-2CF0318D23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9FDB-2806-48C4-910D-00DC7B7BB4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0E66-0589-4CEB-8912-413F17FBDE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99CC-39C6-4B33-9EB4-B3870C7706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3061-3597-4BD8-A345-FA0BBA071E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2E0B-F75A-483A-A091-FFBFFAFFDC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A817-9A1F-4B14-964D-058ED47C62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189C-1BF9-4B37-B1DD-A4CE9EAEFA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0111-C409-457A-B807-FFC3524E2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0323-1DBF-4B74-A470-E4FACB0B9F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15AF-F8EB-4964-AD50-B3ACFF0E23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B5FF-CB4A-46F3-9E71-CE3144A026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A609-378A-429B-8F56-35074ACF6B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F8D5-C915-4B9E-88B2-88FE865259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8FEC-B192-4A02-9151-1830050687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9F5C-CB81-45D3-861F-40BCC582B2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AE7B-9A2D-449D-B8A6-853D4817CE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6664-1333-428D-925B-4D6E4ACBE5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38BD-34B1-4444-9336-F150A9BB4B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DD48-28E1-4C60-A018-A227793EE1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4704-C265-4F59-8F17-FEB9575B5D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847800" y="1989000"/>
            <a:ext cx="7448400" cy="91440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1762200" y="3645000"/>
            <a:ext cx="56196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3" name="图片 1" descr=""/>
          <p:cNvPicPr/>
          <p:nvPr/>
        </p:nvPicPr>
        <p:blipFill>
          <a:blip r:embed="rId1"/>
          <a:stretch/>
        </p:blipFill>
        <p:spPr>
          <a:xfrm>
            <a:off x="1023840" y="1986120"/>
            <a:ext cx="7096320" cy="28857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2"/>
          <a:stretch/>
        </p:blipFill>
        <p:spPr>
          <a:xfrm>
            <a:off x="1619280" y="2708280"/>
            <a:ext cx="3097080" cy="4492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3"/>
          <a:stretch/>
        </p:blipFill>
        <p:spPr>
          <a:xfrm>
            <a:off x="5796000" y="270828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4"/>
          <a:stretch/>
        </p:blipFill>
        <p:spPr>
          <a:xfrm>
            <a:off x="2843280" y="414972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5"/>
          <a:stretch/>
        </p:blipFill>
        <p:spPr>
          <a:xfrm>
            <a:off x="4932360" y="4149720"/>
            <a:ext cx="1008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0" name="图片 1" descr=""/>
          <p:cNvPicPr/>
          <p:nvPr/>
        </p:nvPicPr>
        <p:blipFill>
          <a:blip r:embed="rId1"/>
          <a:stretch/>
        </p:blipFill>
        <p:spPr>
          <a:xfrm>
            <a:off x="200160" y="209520"/>
            <a:ext cx="874368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3" name="图片 1" descr=""/>
          <p:cNvPicPr/>
          <p:nvPr/>
        </p:nvPicPr>
        <p:blipFill>
          <a:blip r:embed="rId1"/>
          <a:stretch/>
        </p:blipFill>
        <p:spPr>
          <a:xfrm>
            <a:off x="623880" y="1619280"/>
            <a:ext cx="7894800" cy="36194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3"/>
          <a:stretch/>
        </p:blipFill>
        <p:spPr>
          <a:xfrm>
            <a:off x="971640" y="249228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4"/>
          <a:stretch/>
        </p:blipFill>
        <p:spPr>
          <a:xfrm>
            <a:off x="971640" y="32130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5"/>
          <a:stretch/>
        </p:blipFill>
        <p:spPr>
          <a:xfrm>
            <a:off x="900000" y="3933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6"/>
          <a:stretch/>
        </p:blipFill>
        <p:spPr>
          <a:xfrm>
            <a:off x="900000" y="4624560"/>
            <a:ext cx="57636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557280" y="1190520"/>
            <a:ext cx="8028000" cy="44769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547640" y="220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5940360" y="220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547640" y="2997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5867280" y="30258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743040" y="2505240"/>
            <a:ext cx="7657920" cy="18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243000" y="752400"/>
            <a:ext cx="8656560" cy="53532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258920" y="4149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800280" y="1204920"/>
            <a:ext cx="7543800" cy="44481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1116000" y="371628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743040" y="2300400"/>
            <a:ext cx="7657920" cy="22572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1071720" y="1100160"/>
            <a:ext cx="7000560" cy="46576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2124000" y="2133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2124000" y="285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2050920" y="3716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2124000" y="4508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6"/>
          <a:stretch/>
        </p:blipFill>
        <p:spPr>
          <a:xfrm>
            <a:off x="2124000" y="5229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1623960" y="1371600"/>
            <a:ext cx="5896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272880" y="995400"/>
            <a:ext cx="8599680" cy="50464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1692360" y="26370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3851280" y="2651040"/>
            <a:ext cx="3241800" cy="449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1692360" y="4076640"/>
            <a:ext cx="2950920" cy="449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5"/>
          <a:stretch/>
        </p:blipFill>
        <p:spPr>
          <a:xfrm>
            <a:off x="7020000" y="4076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6"/>
          <a:stretch/>
        </p:blipFill>
        <p:spPr>
          <a:xfrm>
            <a:off x="1692360" y="5530680"/>
            <a:ext cx="2808360" cy="449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7"/>
          <a:stretch/>
        </p:blipFill>
        <p:spPr>
          <a:xfrm>
            <a:off x="5508720" y="554508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2:24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